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1D6-CA86-4852-88E3-B1EC0A96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A0C-A904-40EF-849D-07472A1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989-C3C4-4FC2-9FD4-404616C2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D72-08F2-44B8-B45A-0F3B4EEF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8B0-01DB-466F-94E6-DFB50D07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C50-5735-406A-A438-610875B1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E84-8792-40FC-9263-70AFCC6B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7D2-A6CB-4CB7-A792-16C2DFB2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87A-B55F-471E-988C-61A48E8D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D86-CC3F-4429-B7E3-B26662B7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742-1B46-4C17-BC69-19F3D852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39F-305D-42B6-AC24-58BDC5D1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1F7E-4B03-487B-9781-4128A73B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042920" y="328464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042920" y="494172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42920" y="12700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042920" y="48704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42920" y="14860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042920" y="422100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1042920" y="50864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http://privatewww.essex.ac.uk/~sjs/"/>
          <p:cNvPicPr/>
          <p:nvPr/>
        </p:nvPicPr>
        <p:blipFill>
          <a:blip r:embed="rId12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476280"/>
          <a:ext cx="6095880" cy="55339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: all nationalities use lower case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oc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la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i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2124000" y="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as nacion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6093000"/>
            <a:ext cx="763272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you’ve written the Spanish AND the English down, use a dictionary to find other European nationalities and add them to you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basic countr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13 important European nationali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spot the missing nationalit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practise spelling the nationali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use dictionaries to find other key nationaliti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ionalidad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042920" y="328464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042920" y="501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7280" y="10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19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263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3429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4365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522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907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i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19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i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85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37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653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l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189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s p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59500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n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http://privatewww.essex.ac.uk/~sjs/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00" y="33192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42920" y="2131920"/>
            <a:ext cx="1524240" cy="86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042920" y="313992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042920" y="39322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042920" y="479736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privatewww.essex.ac.uk/~sjs/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9529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42920" y="14860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042920" y="342900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42920" y="50864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42920" y="14860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042920" y="422100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042920" y="50864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042920" y="328464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042920" y="494172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7:42:44Z</dcterms:created>
  <dc:creator>Owner1</dc:creator>
  <dc:description/>
  <dc:language>en-US</dc:language>
  <cp:lastModifiedBy>Owner1</cp:lastModifiedBy>
  <dcterms:modified xsi:type="dcterms:W3CDTF">2008-10-27T18:03:29Z</dcterms:modified>
  <cp:revision>2</cp:revision>
  <dc:subject/>
  <dc:title>Slide 1</dc:title>
</cp:coreProperties>
</file>